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D8BC92-9802-45D9-A25A-687DC0072E9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650E52-704F-4C91-808F-EFC988B349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E81332-BFB1-4137-80EE-95B98940B0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82D3FA-B167-4332-965D-F6C73B289B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9D9025-EAAE-4920-A24B-8C8996DFF2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DFD943-95E4-47B8-831C-D30EFDA904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1CA803-2D85-407A-9C8C-373ADE17BE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7B0164-5F47-4E9C-8EBB-BF2275A100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DA7812-B510-41B7-85D7-F0F3EE86ED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2A1947-8246-4C07-89CA-6AB6AA6A02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187D8F-871A-459B-A2ED-F10CFC53B3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D21A56-5AD2-4C07-BC03-B5B8E684F0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21656E-10C3-40C8-9093-395FEE1D84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627194-6FE4-492F-BF27-B17C92E578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F0C522-6CB8-4AC5-A5FE-14891F9472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AB5445-8978-4B4A-AC56-888FB7A32B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E4A823-9AFC-40EA-AD9F-F72BEFEE57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91D538-13A7-45BD-94BD-5498A903A7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C40F11-6AA2-44D1-9D3D-D56F03BB1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1DDF56-F518-4F30-B469-9DAE5C90E7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D3E-3DEB-433F-A563-DA43D67C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366-A754-470F-B35F-B977E0E5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A52-0313-4FA2-B4CF-FBC08E35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84D-9085-43B2-898F-45B2117C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962B-F945-4AA2-80DE-6CBE1ACA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B5C9-0C65-40C4-8DA3-02B610DF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D654-DA8F-40FB-8A3C-BD96E1F7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524E-319E-458D-9E19-3D4C04A4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AA34-1CED-4B66-94DE-A04EC3D2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3A78-7FE0-45C1-8057-F0535D74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CDD1-8B41-4422-B38E-94C27210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0A3-6888-4912-AF76-3BF4A692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6F04-7890-48F8-BEAE-3D07BFDF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7EB7-87F1-4D50-A5A0-1FDEEA67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2235-6F52-4467-82FB-762EE5E2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7011-EF58-4B10-8D8C-A12EAF36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84D8-7C38-45C7-B057-53522B7D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85C-32AE-4B09-82EB-22223F8D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077-9581-48A9-B2F2-E7F1F3D2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C2F-5AA0-4724-8133-055187C4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353-7F47-4162-BAA6-2878C548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EF9-9F23-4D86-BFC5-29BDF1B3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9CB-799A-40EC-AD31-8ABB19DA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8E0-0F03-42FE-917F-1CB3F1E9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1213-5F87-4075-B2D2-B1132A4EE8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39F8-0E34-46E6-B780-E0AA802564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Legislative Branch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ring - 201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Content Placeholder 7" descr="Screen shot 2012-10-11 at 1.46.55 PM.png"/>
          <p:cNvPicPr/>
          <p:nvPr/>
        </p:nvPicPr>
        <p:blipFill>
          <a:blip r:embed="rId1"/>
          <a:srcRect l="0" t="-23862" r="0" b="-23862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Content Placeholder 8" descr="Screen shot 2012-10-11 at 1.47.46 PM.png"/>
          <p:cNvPicPr/>
          <p:nvPr/>
        </p:nvPicPr>
        <p:blipFill>
          <a:blip r:embed="rId2"/>
          <a:srcRect l="0" t="-25501" r="0" b="-255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Ses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ach Congress meets for </a:t>
            </a:r>
            <a:r>
              <a:rPr b="1" lang="en-US" sz="3200" spc="-1" strike="noStrike" u="sng">
                <a:solidFill>
                  <a:srgbClr val="cc0099"/>
                </a:solidFill>
                <a:uFillTx/>
                <a:latin typeface="Verdana"/>
              </a:rPr>
              <a:t>two year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divid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sess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odd numbered years following ele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even, election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numbered – the Congress elected in 2008 is the 1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gress and officially bega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ssion Tuesday, January 6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number of the current Congres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ender and Ethnicity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es: 427   House: 347; Senate: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s: 108   House: 88; Senate: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n/Americans: 4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46;  Senate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panics: 3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34;  Senate: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n: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13;  Senate: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verage 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 of Representatives:  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ate:  6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lig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Content Placeholder 3" descr="Screen Shot 2016-01-12 at 1.08.20 PM.pn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35 Me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Qualific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itizen for 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7 yea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characteristics of memb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have been and are white 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s of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e in government (State or local leve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s serve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2 year ter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435 members must be reelected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both houses, the political party that contro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more than half of the seats is known as the majority par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ther is the minority par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ing control of a house of Congress has many advantages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80880" y="2286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Hou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Screen Shot 2016-01-12 at 12.58.33 PM.png"/>
          <p:cNvPicPr/>
          <p:nvPr/>
        </p:nvPicPr>
        <p:blipFill>
          <a:blip r:embed="rId1"/>
          <a:stretch/>
        </p:blipFill>
        <p:spPr>
          <a:xfrm>
            <a:off x="1165320" y="1295280"/>
            <a:ext cx="63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Screen Shot 2016-01-12 at 12.58.19 PM.png"/>
          <p:cNvPicPr/>
          <p:nvPr/>
        </p:nvPicPr>
        <p:blipFill>
          <a:blip r:embed="rId1"/>
          <a:stretch/>
        </p:blipFill>
        <p:spPr>
          <a:xfrm>
            <a:off x="762120" y="1981080"/>
            <a:ext cx="7111800" cy="2971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53352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Sen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jority party provides the leadership of that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er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peaker of the Hou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osen from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ird in lin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and majority party has significant power over the legislative proc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aker for the 1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gress is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Paul Ry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fter a vot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rk Twai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you were an idiot. And suppose you were a member of Congress.  But I repeat myself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at is expressed in this quo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y are members of Congress subject to comments by people such as Jimmy Fallon, Jay Leno, Jon Stewart,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Lead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leader of the maj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Kevin McCarth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(R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Whi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assists the speaker and majority leader in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pping u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pport for legis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teve Scalise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 (R-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Leader – leader of the min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Nancy Pelosi (D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Whip – assists the minority lea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Steny Hoyer (D-M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905120"/>
            <a:ext cx="871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state is guaranteed at lea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 deleg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the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representatives is determin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 is counted every 10 years by the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cens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atives are elec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stri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in states with more than 1 representativ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520" y="5638680"/>
            <a:ext cx="54864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eorgia"/>
              </a:rPr>
              <a:t>Representation Changes after the 2000 Censu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2" name="Picture Placeholder 2" descr="Screen Shot 2015-04-21 at 10.37.30 AM.png"/>
          <p:cNvPicPr/>
          <p:nvPr/>
        </p:nvPicPr>
        <p:blipFill>
          <a:blip r:embed="rId1"/>
          <a:srcRect l="326" t="0" r="682" b="0"/>
          <a:stretch/>
        </p:blipFill>
        <p:spPr>
          <a:xfrm>
            <a:off x="932040" y="612720"/>
            <a:ext cx="71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440" y="4659480"/>
            <a:ext cx="548640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eats gained/lost after 2010 census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4" name="Picture Placeholder 4" descr="Screen Shot 2015-04-21 at 10.38.06 AM.png"/>
          <p:cNvPicPr/>
          <p:nvPr/>
        </p:nvPicPr>
        <p:blipFill>
          <a:blip r:embed="rId1"/>
          <a:srcRect l="-316" t="0" r="-154" b="0"/>
          <a:stretch/>
        </p:blipFill>
        <p:spPr>
          <a:xfrm>
            <a:off x="831960" y="612720"/>
            <a:ext cx="7394400" cy="4114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03-201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7" name="Content Placeholder 3" descr="Screen shot 2012-10-11 at 9.19.54 AM.png"/>
          <p:cNvPicPr/>
          <p:nvPr/>
        </p:nvPicPr>
        <p:blipFill>
          <a:blip r:embed="rId1"/>
          <a:srcRect l="-84083" t="0" r="-8408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12 - 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9" name="Content Placeholder 3" descr="Screen shot 2012-10-11 at 9.28.52 AM.png"/>
          <p:cNvPicPr/>
          <p:nvPr/>
        </p:nvPicPr>
        <p:blipFill>
          <a:blip r:embed="rId1"/>
          <a:srcRect l="-86107" t="0" r="-86107" b="0"/>
          <a:stretch/>
        </p:blipFill>
        <p:spPr>
          <a:xfrm>
            <a:off x="912960" y="1905120"/>
            <a:ext cx="8110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ional districts are drawn by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pportionment occurs when reps are added/ta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cts are NOT to be drawn in a way that is advantageous for a certain group (political party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rrymandering – drawing an odd-shaped district for political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st Gerrymandered Congressional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 for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at least 9 yea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characteris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, m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y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in government (state, House of Reps., etc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s of Off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ors ser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erms that last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6 yea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ximately 1/3 of the Senate is up for reelection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2 Senators elected from each state for a total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portance of 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mers believed Congress would be immensely impor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 article (and longest) of the Constitution is dedicated to the Legislative body of the government of the U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7" name="Content Placeholder 7" descr="Screen shot 2012-10-11 at 10.37.16 AM.png"/>
          <p:cNvPicPr/>
          <p:nvPr/>
        </p:nvPicPr>
        <p:blipFill>
          <a:blip r:embed="rId1"/>
          <a:srcRect l="-10156" t="0" r="-10156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6" descr="Screen shot 2012-10-11 at 10.32.48 AM.png"/>
          <p:cNvPicPr/>
          <p:nvPr/>
        </p:nvPicPr>
        <p:blipFill>
          <a:blip r:embed="rId2"/>
          <a:srcRect l="-7748" t="0" r="-7748" b="0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9224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</a:t>
            </a:r>
            <a:r>
              <a:rPr b="0" lang="ja-JP" sz="4400" spc="-1" strike="noStrike">
                <a:solidFill>
                  <a:srgbClr val="003366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chard Durbin - (D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to the Senate in 1996; from Spring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 for election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ed Senate seat of mentor, Sen. Paul Sim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176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 Kirk - (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in a special election held in to fill the term of Roland Burris; from Champa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yer by prof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the House from 2001-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ate Leade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President of the Senate is the Vice President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United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votes in case of a t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is present in the Sen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urrentl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Joe Bi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y-to-day leader of the Senate is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President Pro Tempo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rmally the most senior member of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have as much power as the Speak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,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rrin Hatch </a:t>
            </a: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(R-P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Mitch McConnell (R-K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aj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John Cornyn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R-T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Harry Reid (D-NV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in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Dick Durbin (D-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42372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Aaron Schock</a:t>
            </a:r>
            <a:br>
              <a:rPr sz="44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(Resigned/Special Election to be held)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7" name="Content Placeholder 6" descr="Screen shot 2012-10-11 at 8.56.30 AM.png"/>
          <p:cNvPicPr/>
          <p:nvPr/>
        </p:nvPicPr>
        <p:blipFill>
          <a:blip r:embed="rId1"/>
          <a:srcRect l="-501" t="0" r="-501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7" descr="Screen shot 2012-10-11 at 9.00.19 AM.png"/>
          <p:cNvPicPr/>
          <p:nvPr/>
        </p:nvPicPr>
        <p:blipFill>
          <a:blip r:embed="rId2"/>
          <a:srcRect l="0" t="-11615" r="0" b="-11615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920" y="838080"/>
            <a:ext cx="524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following questions on a piece of paper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371600" y="6019920"/>
            <a:ext cx="65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 have completed the Preview, share your responses with a partner or with the cla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2367-BA76-4DB2-9AD4-84751288BF9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0" y="5446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80880" y="838080"/>
            <a:ext cx="74678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photograph and biography, what facts do you know about Congressman Schoc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ngs about Aaron Schock do you think are typical for a member of Congress? What things might be atyp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his background do you think would help make Aaron Schock an effective legislator? Expl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y will you and some of your paren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ble to vote for Aaron Schock in this ele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aron Scho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7" name="Content Placeholder 3" descr="Screen shot 2012-10-11 at 9.06.06 AM.png"/>
          <p:cNvPicPr/>
          <p:nvPr/>
        </p:nvPicPr>
        <p:blipFill>
          <a:blip r:embed="rId1"/>
          <a:srcRect l="-59538" t="0" r="-59538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9152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Darin Lahood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9" name="Content Placeholder 2" descr="Screen Shot 2016-01-12 at 12.30.24 PM.png"/>
          <p:cNvPicPr/>
          <p:nvPr/>
        </p:nvPicPr>
        <p:blipFill>
          <a:blip r:embed="rId1"/>
          <a:srcRect l="6367" t="0" r="6367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idence:  Dunlap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ital Status:  Marri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Occupation:  Ill. State Senate, Tazew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’s Attorney’s Office, Lawyer (Miller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ll, and Trigg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Political:  Illinois State Sen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ucation:  Academy/Spalding High School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ras College, John Marshall Law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thdate:  8/12/1928; Peoria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gion:  Roman Cathol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80640" y="609120"/>
            <a:ext cx="81630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hat makes for an effective    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legislator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Bi-cameral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aning </a:t>
            </a: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two hou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 – low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st to the peopl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representation based on pop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 – upp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al state representation (2 per 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by </a:t>
            </a: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Article 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Co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ul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reat Compromi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Connecticut Comprom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J plan favored equal representation for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ginia plan favored larger states with higher pop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8:41:23Z</dcterms:created>
  <dc:creator>Stephanie Fogarty</dc:creator>
  <dc:description/>
  <dc:language>en-US</dc:language>
  <cp:lastModifiedBy>olsonl olson</cp:lastModifiedBy>
  <cp:lastPrinted>2012-10-11T18:42:25Z</cp:lastPrinted>
  <dcterms:modified xsi:type="dcterms:W3CDTF">2016-01-13T16:25:13Z</dcterms:modified>
  <cp:revision>111</cp:revision>
  <dc:subject/>
  <dc:title>The Legislative Branch</dc:title>
</cp:coreProperties>
</file>